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549B-7595-4D63-AAA6-3AF2A2AB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C704-38EE-49BA-B646-96DA7159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C762-08A4-4261-BEDA-E5E6826C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2D41-71FC-4E73-A581-D072528C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7B02-F069-4B1B-8AD1-72584717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4A9D-05F4-41C4-9016-194277C9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1FDA-537D-4CCD-ABDA-0DC47703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FFFB-3A02-46DB-B582-09EFCBC3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21E9-C847-452D-86F2-67E53FB8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8D69-0598-4E4F-B26F-61B1582F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22A7-051E-44E4-9D4F-38D5AA60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A72C-D3C7-495A-B081-97D5B01D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A42C-3982-41D3-82F0-94ACB25F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87B2-3691-4FCB-A991-5C9148A6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B415-4F91-4540-B8FB-3F72098F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6A79-E2DB-4022-894A-8EE9033E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1027-ACD9-4FBF-904B-916221DF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32B-A449-4A3E-B25A-A2A94BB4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BFFC-BCA3-4817-AC99-7FB00747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4AF-86C0-4287-B226-8814E692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5EB7-07C2-4233-BBF0-6CCC4F39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134B-022B-46A5-9697-509B6C80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A4CF-3793-44EB-81B7-35B5A900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BD70-43D2-4FFB-881E-C59F99E5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8A82-EA13-4484-87CE-BC273D5662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3113-30A6-4CC3-B318-566AC78261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6553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Writing Proces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28240" y="28954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e9ce8"/>
                </a:solidFill>
                <a:latin typeface="Arial"/>
              </a:rPr>
              <a:t>Brainstorm</a:t>
            </a:r>
            <a:r>
              <a:rPr b="0" lang="en-US" sz="2000" spc="-1" strike="noStrike">
                <a:solidFill>
                  <a:srgbClr val="7e9ce8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 what to write about.  Ask yoursel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ype of writing is the prompt asking me to 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I adapt my writing to make sure it works for 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my purpose for writing?  What specific types o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s and ideas will help me achieve my purpo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1440" y="375120"/>
            <a:ext cx="732672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e9ce8"/>
                </a:solidFill>
                <a:latin typeface="Arial"/>
              </a:rPr>
              <a:t>Prewrite</a:t>
            </a:r>
            <a:br>
              <a:rPr sz="3900"/>
            </a:br>
            <a:r>
              <a:rPr b="1" lang="en-US" sz="1800" spc="-1" strike="noStrike">
                <a:solidFill>
                  <a:srgbClr val="7e9ce8"/>
                </a:solidFill>
                <a:latin typeface="Arial"/>
              </a:rPr>
              <a:t>Choose your topic and organize your ideas.  Think about: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ch idea from your web would be most interesting to write abou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you think of enough details or examples to support this ide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order makes the most sense for your detail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ch precise words will you try to u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e9ce8"/>
                </a:solidFill>
                <a:latin typeface="Arial"/>
              </a:rPr>
              <a:t>Write</a:t>
            </a:r>
            <a:br>
              <a:rPr sz="3600"/>
            </a:br>
            <a:r>
              <a:rPr b="1" lang="en-US" sz="2800" spc="-1" strike="noStrike">
                <a:solidFill>
                  <a:srgbClr val="7e9ce8"/>
                </a:solidFill>
                <a:latin typeface="Arial"/>
              </a:rPr>
              <a:t>Begin your first draft.  Remember to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back at your planning page for ide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 an introduction, body, and conclus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he sentence starters provided, or cross them out and write your ow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e9ce8"/>
                </a:solidFill>
                <a:latin typeface="Arial"/>
              </a:rPr>
              <a:t>Revise</a:t>
            </a:r>
            <a:br>
              <a:rPr sz="3500"/>
            </a:br>
            <a:r>
              <a:rPr b="1" lang="en-US" sz="2800" spc="-1" strike="noStrike">
                <a:solidFill>
                  <a:srgbClr val="7e9ce8"/>
                </a:solidFill>
                <a:latin typeface="Arial"/>
              </a:rPr>
              <a:t>Read your work and get some feedback from others. Ask yourself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id I do well?  What part could I impro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can I use my partner’s feedback to improve my writ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my changes solve the problems that were pointed ou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9ce8"/>
                </a:solidFill>
                <a:latin typeface="Arial"/>
              </a:rPr>
              <a:t>Edit</a:t>
            </a:r>
            <a:br>
              <a:rPr sz="2800"/>
            </a:br>
            <a:r>
              <a:rPr b="1" lang="en-US" sz="2800" spc="-1" strike="noStrike">
                <a:solidFill>
                  <a:srgbClr val="7e9ce8"/>
                </a:solidFill>
                <a:latin typeface="Arial"/>
              </a:rPr>
              <a:t>Check your work for errors.  Ask yourself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all words spelled correctl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every sentence comple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sentences begin with a capital letter and end with the correct punctua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my writing follow the grammar and mechanics rules I’ve been learn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Final Draft/Pre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you revise and edited draft to create your final version.  Type or neatly write your final version.  How will you share 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8:50:21Z</dcterms:created>
  <dc:creator>Barbara Vogt</dc:creator>
  <dc:description/>
  <dc:language>en-US</dc:language>
  <cp:lastModifiedBy>Barbara Vogt</cp:lastModifiedBy>
  <dcterms:modified xsi:type="dcterms:W3CDTF">2012-02-11T19:19:08Z</dcterms:modified>
  <cp:revision>2</cp:revision>
  <dc:subject/>
  <dc:title>Writing Process</dc:title>
</cp:coreProperties>
</file>